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06EB-3A72-4992-BB36-CB662DBAD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248A-4505-4BF6-AFA6-21036B024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1817-CEA3-4F94-B2EF-C14B6B64A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8BCD-AC63-470E-918E-633676B63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3165-594B-472F-B42B-89F8F695E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DA9E-E75F-44CB-B5E9-65FC1F096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048E-E6D6-46E9-BF6F-98F756F38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9C86-32D0-425A-B390-F4BDDA789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EC6B-9DE0-4807-9FFE-0BD3E465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CE76-7F7C-41BD-9C4B-C207F829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C58A-F957-44C7-B735-4752BB45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38D4-1E17-4A74-94B8-E2A484F0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7D414-C25B-45C1-BF3E-5EFA56CE7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MÁGENES DE CUL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as siguientes Imágenes pueden traer nostalgia y recuerdos a su cabe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2916360" cy="6264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364000" y="0"/>
            <a:ext cx="274176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397160" y="851040"/>
            <a:ext cx="6349680" cy="51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376360" y="404640"/>
            <a:ext cx="439128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55640" y="2108160"/>
            <a:ext cx="77040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486160" y="333360"/>
            <a:ext cx="412416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1241280"/>
            <a:ext cx="4098960" cy="5616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611600" y="0"/>
            <a:ext cx="45324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87600" y="836640"/>
            <a:ext cx="440064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190600" y="1666800"/>
            <a:ext cx="476280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4002120" cy="6119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626000" y="1557360"/>
            <a:ext cx="451800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62440" cy="3933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356000" y="3267000"/>
            <a:ext cx="478800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87280" y="423720"/>
            <a:ext cx="6769440" cy="60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29320" cy="5373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486400" y="1587600"/>
            <a:ext cx="3657600" cy="52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190600" y="2209680"/>
            <a:ext cx="47628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64000" cy="3284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670200" y="2752560"/>
            <a:ext cx="54738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84720" cy="4284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772160" y="2095560"/>
            <a:ext cx="43718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62440" cy="37242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788000" y="2771640"/>
            <a:ext cx="435600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7306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533920" y="2095560"/>
            <a:ext cx="36100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397160" y="1562040"/>
            <a:ext cx="63496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258920" y="1293840"/>
            <a:ext cx="6913440" cy="44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476360" y="1106640"/>
            <a:ext cx="597528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48080" y="380880"/>
            <a:ext cx="40478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932360" y="836640"/>
            <a:ext cx="4516560" cy="6021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-324000" y="0"/>
            <a:ext cx="430056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203720" y="2671920"/>
            <a:ext cx="4940280" cy="4186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77208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190600" y="1843200"/>
            <a:ext cx="476280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4067280" cy="34815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40360" y="3429000"/>
            <a:ext cx="500364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381560" y="3305160"/>
            <a:ext cx="4762440" cy="35528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1636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23880" y="447840"/>
            <a:ext cx="6096240" cy="59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003640" y="0"/>
            <a:ext cx="4140360" cy="3309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5011560" cy="62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58920" y="665280"/>
            <a:ext cx="6769080" cy="56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484360" y="620640"/>
            <a:ext cx="4119480" cy="54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74840" y="404640"/>
            <a:ext cx="45403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16000" y="836640"/>
            <a:ext cx="684072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4:43:18Z</dcterms:created>
  <dc:creator/>
  <dc:description/>
  <dc:language>en-US</dc:language>
  <cp:lastModifiedBy>informatica1</cp:lastModifiedBy>
  <dcterms:modified xsi:type="dcterms:W3CDTF">2006-11-22T16:26:35Z</dcterms:modified>
  <cp:revision>13</cp:revision>
  <dc:subject/>
  <dc:title>Diapositiva 1</dc:title>
</cp:coreProperties>
</file>